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EE56-1F43-4A78-8EC6-037680707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261B-C51E-4BDF-8F19-0657771C5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55E9-A9CC-42F8-BFA4-25FA4AF3B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6E64-5158-455C-B750-91C247933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556A-13C8-481C-9DC2-3BE8B1145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15C7-F1CD-467E-B2FD-9B7B167EE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323F-D415-46DE-B3A4-27D183895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104F-AB1C-4DD4-8D35-CC9E778B6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1172-3389-4B58-8EFF-AA28DC63A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4641-9F8D-4E08-90BC-69A8CF1BB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93F8-9C6C-4E3C-8CAF-DD45146AF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62E7-72F3-4FE1-96B8-C9A737186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3786-E662-4AD3-AAF5-80FE902D1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36F8-ADC8-43DA-AE7B-236E13F68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2446-1BFE-482D-B373-99C4EA512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A6DD-1942-4488-9DA1-0C6CDE731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BDA5-312F-4720-88A4-2CD322614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8FEF-0509-41AF-A1F9-60FFE02BC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7687-BB06-4DFC-A077-533E2F76F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DA62-7479-44EF-B6CB-E2611B42A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E41BE-052D-4C80-BA1A-DBDCE2379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228C-6EE9-49E4-A94A-A7BB27EAD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D194-9D20-47BF-B945-47FE903F2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4CC74-AC40-45BC-B715-7DB24F06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58F72-A863-46B6-8321-93A83D8A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EA878-218C-47AE-9B75-C531816F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9D90F-93E2-4AF4-90E5-B37EF56F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F8FBB-123C-4A39-B352-640B9DDD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C7CF8-9E82-4606-AC2C-B71B2FE2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ED1AE-8B7C-4215-85EF-BD4AD877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6E94-A550-415F-8746-343CB0ED9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82555-60AF-4088-A5FB-7B0FA9C1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9D528-3331-4BDC-B0E1-3925C9DC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ABA93-33ED-403F-B960-A5AB8B26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BB0F0-639E-4380-88DB-AB740AB6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6E987-72DC-4FED-AEA3-239CA45C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582D4-4235-4737-8871-9085F3BD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6BF5A-8898-4081-BB01-27057A6C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9312C-55E6-43B1-B8EF-BFA81C14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A6909-BD54-4F87-B479-C5FBC1EB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B407C-8A25-43F6-8203-D4A512B8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7FBE-7089-4CF3-8FEC-9682048113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6E791-898B-4759-A595-3BF4341C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863BA-C9DB-4D7B-9182-2DA32B18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B061E-3492-4FAF-B452-160EE963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2E460-0B8C-4195-8E4F-019702F3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D18B7-ED1A-481D-A067-9088AB62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5F31E-E82B-4811-B606-5729BA01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52357-CC24-4D59-BE54-0A7F2004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BC167-69DB-4AD2-9792-A4C978074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493F5-BB73-4B31-A0AC-87993D4F6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2646A-30EF-4888-B5BC-467BE5923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342D-207C-4B94-B579-2CE39760C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19E77-2A3D-4C21-B4C1-C0564B40B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EE05-1558-4899-8818-8EE2F1431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15A5-FD6B-4CFD-8F55-C7C5C079A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AE41-E058-4CB2-B061-ED1A4B149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BBAB-EAF1-42B9-90D3-FC57EF5BE30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D94D-D272-428B-AA4E-F8CAAAEFEB5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E0A9-4C41-4782-9F16-AF587C87C5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oftware Testing – 5 – BBT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182600" y="3779640"/>
            <a:ext cx="6778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cture # 2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5CEC-F98B-41E9-9D1F-3F1E0AF1F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C6904-FDBF-48E9-8D6B-76CD3182A7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ack-box Testing -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ystem particularly sensitive to certain input valu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the boundaries of a data class isol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ata rates and data volume can the system toler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ffect will specific combinations of data have on system oper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6536-DAC1-4A9B-B9FA-780E5F8E9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98E03-749B-4E0F-9B34-A3BF3BA4EA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ack-box Testing -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ying BBT, we derive a set of test cases that satisfy the following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cases that reduce the number of additional test cases that must be designed to achieve reasonable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cases that tell us something about the presence or absence of classes of errors, rather than an error associated only with the specific test at h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5C0E-A197-4EBB-98D1-1982A382B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17766-BA04-4E3F-A15C-52457217DA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BT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ce part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ary valu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FE3D-3391-414F-B092-B79E87CC5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9141-9D15-4E5E-B06E-6AC94DA0DB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valence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E412-7931-4507-B408-DF4079D9AA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valence Partitioning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ce partitioning is a black-box testing method that divides the input domain of a program into classes of data from which test cases can be der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ce partitioning strives to define a test case that uncovers classes of errors, thereby reducing the total number of test cases that must be develo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413B-EBCB-4034-BAF5-2A6FF2861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FD029-C381-4791-96C9-7EB5CA1357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valence Partitioning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quivalence class represents a set of valid or invalid states for input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, an input condition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fic numeric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ange of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related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841C-AD0F-4B6C-8179-6DC61E307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87B49-93A5-495A-8614-72D3FF188C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lines for Equivalence Classes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n input condition specifies a range, one valid and two invalid equivalence classes are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n input condition requires a specific value, one valid and two invalid equivalence classes are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4F50-7B8C-4A91-96E7-D959C0701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01B8-434A-4D1C-8B07-F23727E5F6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lines for Equivalence Classes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n input condition specifies a member of a set, one valid and one invalid equivalence class are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n input condition is boolean, one valid and one invalid class are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CEF1-E750-4D6C-B889-952686E63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5F9B-628B-4881-BF2B-A3D280A6E4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69880" y="615960"/>
            <a:ext cx="5951520" cy="3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valence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744560" y="1898640"/>
            <a:ext cx="1123920" cy="3512880"/>
            <a:chOff x="1744560" y="1898640"/>
            <a:chExt cx="1123920" cy="3512880"/>
          </a:xfrm>
        </p:grpSpPr>
        <p:sp>
          <p:nvSpPr>
            <p:cNvPr id="231" name="Freeform 4"/>
            <p:cNvSpPr/>
            <p:nvPr/>
          </p:nvSpPr>
          <p:spPr>
            <a:xfrm>
              <a:off x="1744560" y="1898640"/>
              <a:ext cx="835200" cy="119160"/>
            </a:xfrm>
            <a:prstGeom prst="pie">
              <a:avLst/>
            </a:pr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>
              <a:off x="2509920" y="1898640"/>
              <a:ext cx="357120" cy="1803600"/>
            </a:xfrm>
            <a:prstGeom prst="pie">
              <a:avLst/>
            </a:pr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>
              <a:off x="2517840" y="3604320"/>
              <a:ext cx="350640" cy="1807200"/>
            </a:xfrm>
            <a:prstGeom prst="pie">
              <a:avLst/>
            </a:prstGeom>
            <a:solidFill>
              <a:srgbClr val="df9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7"/>
            <p:cNvSpPr/>
            <p:nvPr/>
          </p:nvSpPr>
          <p:spPr>
            <a:xfrm>
              <a:off x="1744560" y="2016360"/>
              <a:ext cx="1062000" cy="3395160"/>
            </a:xfrm>
            <a:prstGeom prst="pie">
              <a:avLst/>
            </a:prstGeom>
            <a:solidFill>
              <a:srgbClr val="7f00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8"/>
          <p:cNvGrpSpPr/>
          <p:nvPr/>
        </p:nvGrpSpPr>
        <p:grpSpPr>
          <a:xfrm>
            <a:off x="3530520" y="1898640"/>
            <a:ext cx="1123920" cy="3512880"/>
            <a:chOff x="3530520" y="1898640"/>
            <a:chExt cx="1123920" cy="3512880"/>
          </a:xfrm>
        </p:grpSpPr>
        <p:sp>
          <p:nvSpPr>
            <p:cNvPr id="236" name="Freeform 9"/>
            <p:cNvSpPr/>
            <p:nvPr/>
          </p:nvSpPr>
          <p:spPr>
            <a:xfrm>
              <a:off x="3530520" y="1898640"/>
              <a:ext cx="836640" cy="119160"/>
            </a:xfrm>
            <a:prstGeom prst="pie">
              <a:avLst/>
            </a:pr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10"/>
            <p:cNvSpPr/>
            <p:nvPr/>
          </p:nvSpPr>
          <p:spPr>
            <a:xfrm>
              <a:off x="4295880" y="1898640"/>
              <a:ext cx="357120" cy="1802160"/>
            </a:xfrm>
            <a:prstGeom prst="pie">
              <a:avLst/>
            </a:pr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11"/>
            <p:cNvSpPr/>
            <p:nvPr/>
          </p:nvSpPr>
          <p:spPr>
            <a:xfrm>
              <a:off x="4303800" y="3604320"/>
              <a:ext cx="350640" cy="1807200"/>
            </a:xfrm>
            <a:prstGeom prst="pie">
              <a:avLst/>
            </a:pr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12"/>
            <p:cNvSpPr/>
            <p:nvPr/>
          </p:nvSpPr>
          <p:spPr>
            <a:xfrm>
              <a:off x="3530520" y="2016360"/>
              <a:ext cx="1062000" cy="3395160"/>
            </a:xfrm>
            <a:prstGeom prst="pie">
              <a:avLst/>
            </a:pr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13"/>
          <p:cNvGrpSpPr/>
          <p:nvPr/>
        </p:nvGrpSpPr>
        <p:grpSpPr>
          <a:xfrm>
            <a:off x="2620800" y="1898640"/>
            <a:ext cx="1124280" cy="3512880"/>
            <a:chOff x="2620800" y="1898640"/>
            <a:chExt cx="1124280" cy="3512880"/>
          </a:xfrm>
        </p:grpSpPr>
        <p:sp>
          <p:nvSpPr>
            <p:cNvPr id="241" name="Freeform 14"/>
            <p:cNvSpPr/>
            <p:nvPr/>
          </p:nvSpPr>
          <p:spPr>
            <a:xfrm>
              <a:off x="2620800" y="1898640"/>
              <a:ext cx="835200" cy="119160"/>
            </a:xfrm>
            <a:prstGeom prst="pie">
              <a:avLst/>
            </a:pr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5"/>
            <p:cNvSpPr/>
            <p:nvPr/>
          </p:nvSpPr>
          <p:spPr>
            <a:xfrm>
              <a:off x="3386160" y="1898640"/>
              <a:ext cx="357120" cy="1803600"/>
            </a:xfrm>
            <a:prstGeom prst="pie">
              <a:avLst/>
            </a:prstGeom>
            <a:solidFill>
              <a:srgbClr val="ff5f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>
              <a:off x="3394080" y="3604320"/>
              <a:ext cx="351000" cy="1807200"/>
            </a:xfrm>
            <a:prstGeom prst="pie">
              <a:avLst/>
            </a:prstGeom>
            <a:solidFill>
              <a:srgbClr val="ff7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>
              <a:off x="2620800" y="2016360"/>
              <a:ext cx="1062360" cy="3395160"/>
            </a:xfrm>
            <a:prstGeom prst="pie">
              <a:avLst/>
            </a:pr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8"/>
          <p:cNvGrpSpPr/>
          <p:nvPr/>
        </p:nvGrpSpPr>
        <p:grpSpPr>
          <a:xfrm>
            <a:off x="4470480" y="1898640"/>
            <a:ext cx="1123920" cy="3512880"/>
            <a:chOff x="4470480" y="1898640"/>
            <a:chExt cx="1123920" cy="3512880"/>
          </a:xfrm>
        </p:grpSpPr>
        <p:sp>
          <p:nvSpPr>
            <p:cNvPr id="246" name="Freeform 19"/>
            <p:cNvSpPr/>
            <p:nvPr/>
          </p:nvSpPr>
          <p:spPr>
            <a:xfrm>
              <a:off x="4470480" y="1898640"/>
              <a:ext cx="836640" cy="119160"/>
            </a:xfrm>
            <a:prstGeom prst="pie">
              <a:avLst/>
            </a:pr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20"/>
            <p:cNvSpPr/>
            <p:nvPr/>
          </p:nvSpPr>
          <p:spPr>
            <a:xfrm>
              <a:off x="5235480" y="1898640"/>
              <a:ext cx="357120" cy="1802160"/>
            </a:xfrm>
            <a:prstGeom prst="pie">
              <a:avLst/>
            </a:pr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21"/>
            <p:cNvSpPr/>
            <p:nvPr/>
          </p:nvSpPr>
          <p:spPr>
            <a:xfrm>
              <a:off x="5243400" y="3604320"/>
              <a:ext cx="351000" cy="1807200"/>
            </a:xfrm>
            <a:prstGeom prst="pie">
              <a:avLst/>
            </a:pr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22"/>
            <p:cNvSpPr/>
            <p:nvPr/>
          </p:nvSpPr>
          <p:spPr>
            <a:xfrm>
              <a:off x="4470480" y="2016360"/>
              <a:ext cx="1062000" cy="3395160"/>
            </a:xfrm>
            <a:prstGeom prst="pie">
              <a:avLst/>
            </a:pr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23"/>
          <p:cNvGrpSpPr/>
          <p:nvPr/>
        </p:nvGrpSpPr>
        <p:grpSpPr>
          <a:xfrm>
            <a:off x="5410080" y="1898640"/>
            <a:ext cx="1123920" cy="3512880"/>
            <a:chOff x="5410080" y="1898640"/>
            <a:chExt cx="1123920" cy="3512880"/>
          </a:xfrm>
        </p:grpSpPr>
        <p:sp>
          <p:nvSpPr>
            <p:cNvPr id="251" name="Freeform 24"/>
            <p:cNvSpPr/>
            <p:nvPr/>
          </p:nvSpPr>
          <p:spPr>
            <a:xfrm>
              <a:off x="5410080" y="1898640"/>
              <a:ext cx="836640" cy="119160"/>
            </a:xfrm>
            <a:prstGeom prst="pie">
              <a:avLst/>
            </a:pr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25"/>
            <p:cNvSpPr/>
            <p:nvPr/>
          </p:nvSpPr>
          <p:spPr>
            <a:xfrm>
              <a:off x="6175440" y="1898640"/>
              <a:ext cx="357120" cy="1802160"/>
            </a:xfrm>
            <a:prstGeom prst="pie">
              <a:avLst/>
            </a:pr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26"/>
            <p:cNvSpPr/>
            <p:nvPr/>
          </p:nvSpPr>
          <p:spPr>
            <a:xfrm>
              <a:off x="6183360" y="3604320"/>
              <a:ext cx="350640" cy="1807200"/>
            </a:xfrm>
            <a:prstGeom prst="pie">
              <a:avLst/>
            </a:pr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27"/>
            <p:cNvSpPr/>
            <p:nvPr/>
          </p:nvSpPr>
          <p:spPr>
            <a:xfrm>
              <a:off x="5410080" y="2016360"/>
              <a:ext cx="1062000" cy="3395160"/>
            </a:xfrm>
            <a:prstGeom prst="pie">
              <a:avLst/>
            </a:pr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28"/>
          <p:cNvGrpSpPr/>
          <p:nvPr/>
        </p:nvGrpSpPr>
        <p:grpSpPr>
          <a:xfrm>
            <a:off x="6350040" y="1898640"/>
            <a:ext cx="1123920" cy="3512880"/>
            <a:chOff x="6350040" y="1898640"/>
            <a:chExt cx="1123920" cy="3512880"/>
          </a:xfrm>
        </p:grpSpPr>
        <p:sp>
          <p:nvSpPr>
            <p:cNvPr id="256" name="Freeform 29"/>
            <p:cNvSpPr/>
            <p:nvPr/>
          </p:nvSpPr>
          <p:spPr>
            <a:xfrm>
              <a:off x="6350040" y="1898640"/>
              <a:ext cx="836640" cy="119160"/>
            </a:xfrm>
            <a:prstGeom prst="pie">
              <a:avLst/>
            </a:pr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30"/>
            <p:cNvSpPr/>
            <p:nvPr/>
          </p:nvSpPr>
          <p:spPr>
            <a:xfrm>
              <a:off x="7115040" y="1898640"/>
              <a:ext cx="357480" cy="1802160"/>
            </a:xfrm>
            <a:prstGeom prst="pie">
              <a:avLst/>
            </a:pr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31"/>
            <p:cNvSpPr/>
            <p:nvPr/>
          </p:nvSpPr>
          <p:spPr>
            <a:xfrm>
              <a:off x="7122960" y="3604320"/>
              <a:ext cx="351000" cy="1807200"/>
            </a:xfrm>
            <a:prstGeom prst="pie">
              <a:avLst/>
            </a:pr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32"/>
            <p:cNvSpPr/>
            <p:nvPr/>
          </p:nvSpPr>
          <p:spPr>
            <a:xfrm>
              <a:off x="6350040" y="2016360"/>
              <a:ext cx="1062000" cy="3395160"/>
            </a:xfrm>
            <a:prstGeom prst="pie">
              <a:avLst/>
            </a:pr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Rectangle 33"/>
          <p:cNvSpPr/>
          <p:nvPr/>
        </p:nvSpPr>
        <p:spPr>
          <a:xfrm>
            <a:off x="1716840" y="3135240"/>
            <a:ext cx="106380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2834280" y="3436920"/>
            <a:ext cx="9784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3773520" y="3192480"/>
            <a:ext cx="11156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4701240" y="3665520"/>
            <a:ext cx="1182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5690520" y="3151080"/>
            <a:ext cx="8092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8"/>
          <p:cNvSpPr/>
          <p:nvPr/>
        </p:nvSpPr>
        <p:spPr>
          <a:xfrm>
            <a:off x="6680160" y="3537000"/>
            <a:ext cx="690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52C19-F461-451E-976D-6D372BE2CA0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80600" y="515880"/>
            <a:ext cx="6388200" cy="3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Equivalenc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135960" y="1619280"/>
            <a:ext cx="3200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user supplied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3138120" y="1938240"/>
            <a:ext cx="3684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responses to system 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3128040" y="2257560"/>
            <a:ext cx="1446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fil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130560" y="2560680"/>
            <a:ext cx="2514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computation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134880" y="2867040"/>
            <a:ext cx="3226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hysical parameter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3133800" y="3157560"/>
            <a:ext cx="2495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bound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3117960" y="3432240"/>
            <a:ext cx="2447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initiation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3119760" y="3738600"/>
            <a:ext cx="2913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output data forma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3137400" y="3998880"/>
            <a:ext cx="358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responses to error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3138120" y="4260960"/>
            <a:ext cx="429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graphical data (e.g., mouse pi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3140640" y="5089680"/>
            <a:ext cx="457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data outside bounds of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4"/>
          <p:cNvSpPr/>
          <p:nvPr/>
        </p:nvSpPr>
        <p:spPr>
          <a:xfrm>
            <a:off x="3134160" y="5353200"/>
            <a:ext cx="3422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hysically impossib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3128760" y="5627520"/>
            <a:ext cx="471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roper value supplied in wrong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6"/>
          <p:cNvSpPr/>
          <p:nvPr/>
        </p:nvSpPr>
        <p:spPr>
          <a:xfrm>
            <a:off x="2682360" y="1344600"/>
            <a:ext cx="146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030a0"/>
                </a:solidFill>
                <a:uFillTx/>
                <a:latin typeface="Times New Roman"/>
              </a:rPr>
              <a:t>Val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2716920" y="4761000"/>
            <a:ext cx="166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030a0"/>
                </a:solidFill>
                <a:uFillTx/>
                <a:latin typeface="Times New Roman"/>
              </a:rPr>
              <a:t>Inval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18"/>
          <p:cNvGrpSpPr/>
          <p:nvPr/>
        </p:nvGrpSpPr>
        <p:grpSpPr>
          <a:xfrm>
            <a:off x="1511280" y="1941480"/>
            <a:ext cx="1123920" cy="3512880"/>
            <a:chOff x="1511280" y="1941480"/>
            <a:chExt cx="1123920" cy="3512880"/>
          </a:xfrm>
        </p:grpSpPr>
        <p:sp>
          <p:nvSpPr>
            <p:cNvPr id="283" name="Freeform 19"/>
            <p:cNvSpPr/>
            <p:nvPr/>
          </p:nvSpPr>
          <p:spPr>
            <a:xfrm>
              <a:off x="1511280" y="1941480"/>
              <a:ext cx="836640" cy="119880"/>
            </a:xfrm>
            <a:prstGeom prst="pie">
              <a:avLst/>
            </a:pr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20"/>
            <p:cNvSpPr/>
            <p:nvPr/>
          </p:nvSpPr>
          <p:spPr>
            <a:xfrm>
              <a:off x="2276640" y="1941480"/>
              <a:ext cx="357120" cy="1802160"/>
            </a:xfrm>
            <a:prstGeom prst="pie">
              <a:avLst/>
            </a:pr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1"/>
            <p:cNvSpPr/>
            <p:nvPr/>
          </p:nvSpPr>
          <p:spPr>
            <a:xfrm>
              <a:off x="2284560" y="3647160"/>
              <a:ext cx="350640" cy="1807200"/>
            </a:xfrm>
            <a:prstGeom prst="pie">
              <a:avLst/>
            </a:pr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1511280" y="2059200"/>
              <a:ext cx="1062000" cy="3395160"/>
            </a:xfrm>
            <a:prstGeom prst="pie">
              <a:avLst/>
            </a:pr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7441F-2EFE-47A7-85D2-2F46DFBF4F9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ed white-box testing techniques in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948E-2371-42FD-B7BF-3B08835F8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C361-A836-49FA-9B82-985F8C307E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cussion on Equivalence Partiti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FF3B-5963-4D50-A77E-411E4AEE89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undary Value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E837-3063-454E-82B1-9BBAE9C249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undary Value Analysis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ary value analysis (BVA) is a testing technique, which leads to a selection of test cases that exercise bounding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that for reasons not clearly completely clear, a greater number of errors tends to occur at the boundaries of the input domain rather than in the “cent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4CE3-2524-447F-BFF9-DD62E13A9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6FE09-E84A-4CE5-A20F-AF8763EA81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undary Value Analysis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VA complements equivalence partitioning testing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0744-D964-4227-9981-06E860BE6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EA459-5200-44CB-A8FA-E15F91A41E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91840" y="537840"/>
            <a:ext cx="6411960" cy="2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undary Value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3"/>
          <p:cNvGrpSpPr/>
          <p:nvPr/>
        </p:nvGrpSpPr>
        <p:grpSpPr>
          <a:xfrm>
            <a:off x="1287360" y="1884240"/>
            <a:ext cx="1123920" cy="3512880"/>
            <a:chOff x="1287360" y="1884240"/>
            <a:chExt cx="1123920" cy="3512880"/>
          </a:xfrm>
        </p:grpSpPr>
        <p:sp>
          <p:nvSpPr>
            <p:cNvPr id="299" name="Freeform 4"/>
            <p:cNvSpPr/>
            <p:nvPr/>
          </p:nvSpPr>
          <p:spPr>
            <a:xfrm>
              <a:off x="1287360" y="1884240"/>
              <a:ext cx="835200" cy="119880"/>
            </a:xfrm>
            <a:prstGeom prst="pie">
              <a:avLst/>
            </a:pr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5"/>
            <p:cNvSpPr/>
            <p:nvPr/>
          </p:nvSpPr>
          <p:spPr>
            <a:xfrm>
              <a:off x="2052720" y="1884240"/>
              <a:ext cx="357120" cy="1803960"/>
            </a:xfrm>
            <a:prstGeom prst="pie">
              <a:avLst/>
            </a:pr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6"/>
            <p:cNvSpPr/>
            <p:nvPr/>
          </p:nvSpPr>
          <p:spPr>
            <a:xfrm>
              <a:off x="2060640" y="3589920"/>
              <a:ext cx="350640" cy="1807200"/>
            </a:xfrm>
            <a:prstGeom prst="pie">
              <a:avLst/>
            </a:prstGeom>
            <a:solidFill>
              <a:srgbClr val="df9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7"/>
            <p:cNvSpPr/>
            <p:nvPr/>
          </p:nvSpPr>
          <p:spPr>
            <a:xfrm>
              <a:off x="1287360" y="2001960"/>
              <a:ext cx="1062000" cy="3395160"/>
            </a:xfrm>
            <a:prstGeom prst="pie">
              <a:avLst/>
            </a:prstGeom>
            <a:solidFill>
              <a:srgbClr val="7f00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8"/>
          <p:cNvGrpSpPr/>
          <p:nvPr/>
        </p:nvGrpSpPr>
        <p:grpSpPr>
          <a:xfrm>
            <a:off x="3073320" y="1884240"/>
            <a:ext cx="1123920" cy="3512880"/>
            <a:chOff x="3073320" y="1884240"/>
            <a:chExt cx="1123920" cy="3512880"/>
          </a:xfrm>
        </p:grpSpPr>
        <p:sp>
          <p:nvSpPr>
            <p:cNvPr id="304" name="Freeform 9"/>
            <p:cNvSpPr/>
            <p:nvPr/>
          </p:nvSpPr>
          <p:spPr>
            <a:xfrm>
              <a:off x="3073320" y="1884240"/>
              <a:ext cx="836640" cy="119880"/>
            </a:xfrm>
            <a:prstGeom prst="pie">
              <a:avLst/>
            </a:pr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10"/>
            <p:cNvSpPr/>
            <p:nvPr/>
          </p:nvSpPr>
          <p:spPr>
            <a:xfrm>
              <a:off x="3838680" y="1884240"/>
              <a:ext cx="357120" cy="1802160"/>
            </a:xfrm>
            <a:prstGeom prst="pie">
              <a:avLst/>
            </a:pr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11"/>
            <p:cNvSpPr/>
            <p:nvPr/>
          </p:nvSpPr>
          <p:spPr>
            <a:xfrm>
              <a:off x="3846600" y="3589920"/>
              <a:ext cx="350640" cy="1807200"/>
            </a:xfrm>
            <a:prstGeom prst="pie">
              <a:avLst/>
            </a:pr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12"/>
            <p:cNvSpPr/>
            <p:nvPr/>
          </p:nvSpPr>
          <p:spPr>
            <a:xfrm>
              <a:off x="3073320" y="2001960"/>
              <a:ext cx="1062000" cy="3395160"/>
            </a:xfrm>
            <a:prstGeom prst="pie">
              <a:avLst/>
            </a:pr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13"/>
          <p:cNvGrpSpPr/>
          <p:nvPr/>
        </p:nvGrpSpPr>
        <p:grpSpPr>
          <a:xfrm>
            <a:off x="2163600" y="1884240"/>
            <a:ext cx="1124280" cy="3512880"/>
            <a:chOff x="2163600" y="1884240"/>
            <a:chExt cx="1124280" cy="3512880"/>
          </a:xfrm>
        </p:grpSpPr>
        <p:sp>
          <p:nvSpPr>
            <p:cNvPr id="309" name="Freeform 14"/>
            <p:cNvSpPr/>
            <p:nvPr/>
          </p:nvSpPr>
          <p:spPr>
            <a:xfrm>
              <a:off x="2163600" y="1884240"/>
              <a:ext cx="835200" cy="119880"/>
            </a:xfrm>
            <a:prstGeom prst="pie">
              <a:avLst/>
            </a:pr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2928960" y="1884240"/>
              <a:ext cx="357120" cy="1803960"/>
            </a:xfrm>
            <a:prstGeom prst="pie">
              <a:avLst/>
            </a:prstGeom>
            <a:solidFill>
              <a:srgbClr val="ff5f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2936880" y="3589920"/>
              <a:ext cx="351000" cy="1807200"/>
            </a:xfrm>
            <a:prstGeom prst="pie">
              <a:avLst/>
            </a:prstGeom>
            <a:solidFill>
              <a:srgbClr val="ff7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17"/>
            <p:cNvSpPr/>
            <p:nvPr/>
          </p:nvSpPr>
          <p:spPr>
            <a:xfrm>
              <a:off x="2163600" y="2001960"/>
              <a:ext cx="1062360" cy="3395160"/>
            </a:xfrm>
            <a:prstGeom prst="pie">
              <a:avLst/>
            </a:pr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18"/>
          <p:cNvGrpSpPr/>
          <p:nvPr/>
        </p:nvGrpSpPr>
        <p:grpSpPr>
          <a:xfrm>
            <a:off x="4013280" y="1884240"/>
            <a:ext cx="1123920" cy="3512880"/>
            <a:chOff x="4013280" y="1884240"/>
            <a:chExt cx="1123920" cy="3512880"/>
          </a:xfrm>
        </p:grpSpPr>
        <p:sp>
          <p:nvSpPr>
            <p:cNvPr id="314" name="Freeform 19"/>
            <p:cNvSpPr/>
            <p:nvPr/>
          </p:nvSpPr>
          <p:spPr>
            <a:xfrm>
              <a:off x="4013280" y="1884240"/>
              <a:ext cx="836640" cy="119880"/>
            </a:xfrm>
            <a:prstGeom prst="pie">
              <a:avLst/>
            </a:pr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20"/>
            <p:cNvSpPr/>
            <p:nvPr/>
          </p:nvSpPr>
          <p:spPr>
            <a:xfrm>
              <a:off x="4778280" y="1884240"/>
              <a:ext cx="357120" cy="1802160"/>
            </a:xfrm>
            <a:prstGeom prst="pie">
              <a:avLst/>
            </a:pr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21"/>
            <p:cNvSpPr/>
            <p:nvPr/>
          </p:nvSpPr>
          <p:spPr>
            <a:xfrm>
              <a:off x="4786200" y="3589920"/>
              <a:ext cx="351000" cy="1807200"/>
            </a:xfrm>
            <a:prstGeom prst="pie">
              <a:avLst/>
            </a:pr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22"/>
            <p:cNvSpPr/>
            <p:nvPr/>
          </p:nvSpPr>
          <p:spPr>
            <a:xfrm>
              <a:off x="4013280" y="2001960"/>
              <a:ext cx="1062000" cy="3395160"/>
            </a:xfrm>
            <a:prstGeom prst="pie">
              <a:avLst/>
            </a:pr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23"/>
          <p:cNvGrpSpPr/>
          <p:nvPr/>
        </p:nvGrpSpPr>
        <p:grpSpPr>
          <a:xfrm>
            <a:off x="4952880" y="1884240"/>
            <a:ext cx="1123920" cy="3512880"/>
            <a:chOff x="4952880" y="1884240"/>
            <a:chExt cx="1123920" cy="3512880"/>
          </a:xfrm>
        </p:grpSpPr>
        <p:sp>
          <p:nvSpPr>
            <p:cNvPr id="319" name="Freeform 24"/>
            <p:cNvSpPr/>
            <p:nvPr/>
          </p:nvSpPr>
          <p:spPr>
            <a:xfrm>
              <a:off x="4952880" y="1884240"/>
              <a:ext cx="836640" cy="119880"/>
            </a:xfrm>
            <a:prstGeom prst="pie">
              <a:avLst/>
            </a:pr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25"/>
            <p:cNvSpPr/>
            <p:nvPr/>
          </p:nvSpPr>
          <p:spPr>
            <a:xfrm>
              <a:off x="5718240" y="1884240"/>
              <a:ext cx="357120" cy="1802160"/>
            </a:xfrm>
            <a:prstGeom prst="pie">
              <a:avLst/>
            </a:pr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26"/>
            <p:cNvSpPr/>
            <p:nvPr/>
          </p:nvSpPr>
          <p:spPr>
            <a:xfrm>
              <a:off x="5726160" y="3589920"/>
              <a:ext cx="350640" cy="1807200"/>
            </a:xfrm>
            <a:prstGeom prst="pie">
              <a:avLst/>
            </a:pr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27"/>
            <p:cNvSpPr/>
            <p:nvPr/>
          </p:nvSpPr>
          <p:spPr>
            <a:xfrm>
              <a:off x="4952880" y="2001960"/>
              <a:ext cx="1062000" cy="3395160"/>
            </a:xfrm>
            <a:prstGeom prst="pie">
              <a:avLst/>
            </a:pr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28"/>
          <p:cNvGrpSpPr/>
          <p:nvPr/>
        </p:nvGrpSpPr>
        <p:grpSpPr>
          <a:xfrm>
            <a:off x="5892840" y="1884240"/>
            <a:ext cx="1123920" cy="3512880"/>
            <a:chOff x="5892840" y="1884240"/>
            <a:chExt cx="1123920" cy="3512880"/>
          </a:xfrm>
        </p:grpSpPr>
        <p:sp>
          <p:nvSpPr>
            <p:cNvPr id="324" name="Freeform 29"/>
            <p:cNvSpPr/>
            <p:nvPr/>
          </p:nvSpPr>
          <p:spPr>
            <a:xfrm>
              <a:off x="5892840" y="1884240"/>
              <a:ext cx="836640" cy="119880"/>
            </a:xfrm>
            <a:prstGeom prst="pie">
              <a:avLst/>
            </a:pr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30"/>
            <p:cNvSpPr/>
            <p:nvPr/>
          </p:nvSpPr>
          <p:spPr>
            <a:xfrm>
              <a:off x="6657840" y="1884240"/>
              <a:ext cx="357480" cy="1802160"/>
            </a:xfrm>
            <a:prstGeom prst="pie">
              <a:avLst/>
            </a:pr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31"/>
            <p:cNvSpPr/>
            <p:nvPr/>
          </p:nvSpPr>
          <p:spPr>
            <a:xfrm>
              <a:off x="6665760" y="3589920"/>
              <a:ext cx="351000" cy="1807200"/>
            </a:xfrm>
            <a:prstGeom prst="pie">
              <a:avLst/>
            </a:pr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32"/>
            <p:cNvSpPr/>
            <p:nvPr/>
          </p:nvSpPr>
          <p:spPr>
            <a:xfrm>
              <a:off x="5892840" y="2001960"/>
              <a:ext cx="1062000" cy="3395160"/>
            </a:xfrm>
            <a:prstGeom prst="pie">
              <a:avLst/>
            </a:pr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Rectangle 33"/>
          <p:cNvSpPr/>
          <p:nvPr/>
        </p:nvSpPr>
        <p:spPr>
          <a:xfrm>
            <a:off x="1259640" y="3122640"/>
            <a:ext cx="106380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34"/>
          <p:cNvSpPr/>
          <p:nvPr/>
        </p:nvSpPr>
        <p:spPr>
          <a:xfrm>
            <a:off x="2222640" y="2057400"/>
            <a:ext cx="928440" cy="3244680"/>
          </a:xfrm>
          <a:prstGeom prst="pie">
            <a:avLst/>
          </a:pr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2377080" y="3421080"/>
            <a:ext cx="9784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36"/>
          <p:cNvSpPr/>
          <p:nvPr/>
        </p:nvSpPr>
        <p:spPr>
          <a:xfrm>
            <a:off x="3162240" y="2085840"/>
            <a:ext cx="928800" cy="3245040"/>
          </a:xfrm>
          <a:prstGeom prst="pie">
            <a:avLst/>
          </a:pr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37"/>
          <p:cNvSpPr/>
          <p:nvPr/>
        </p:nvSpPr>
        <p:spPr>
          <a:xfrm>
            <a:off x="4102200" y="2100240"/>
            <a:ext cx="928440" cy="3245040"/>
          </a:xfrm>
          <a:prstGeom prst="pie">
            <a:avLst/>
          </a:pr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38"/>
          <p:cNvSpPr/>
          <p:nvPr/>
        </p:nvSpPr>
        <p:spPr>
          <a:xfrm>
            <a:off x="5029200" y="2071800"/>
            <a:ext cx="928800" cy="3244680"/>
          </a:xfrm>
          <a:prstGeom prst="pie">
            <a:avLst/>
          </a:pr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39"/>
          <p:cNvSpPr/>
          <p:nvPr/>
        </p:nvSpPr>
        <p:spPr>
          <a:xfrm>
            <a:off x="5969160" y="2085840"/>
            <a:ext cx="928440" cy="3245040"/>
          </a:xfrm>
          <a:prstGeom prst="pie">
            <a:avLst/>
          </a:pr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0"/>
          <p:cNvSpPr/>
          <p:nvPr/>
        </p:nvSpPr>
        <p:spPr>
          <a:xfrm>
            <a:off x="3316320" y="3179880"/>
            <a:ext cx="11156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41"/>
          <p:cNvSpPr/>
          <p:nvPr/>
        </p:nvSpPr>
        <p:spPr>
          <a:xfrm>
            <a:off x="4244040" y="3651120"/>
            <a:ext cx="1182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2"/>
          <p:cNvSpPr/>
          <p:nvPr/>
        </p:nvSpPr>
        <p:spPr>
          <a:xfrm>
            <a:off x="5233320" y="3135240"/>
            <a:ext cx="8092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3"/>
          <p:cNvSpPr/>
          <p:nvPr/>
        </p:nvSpPr>
        <p:spPr>
          <a:xfrm>
            <a:off x="6222960" y="3522600"/>
            <a:ext cx="690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44"/>
          <p:cNvGrpSpPr/>
          <p:nvPr/>
        </p:nvGrpSpPr>
        <p:grpSpPr>
          <a:xfrm>
            <a:off x="7104240" y="1884240"/>
            <a:ext cx="1123920" cy="3512880"/>
            <a:chOff x="7104240" y="1884240"/>
            <a:chExt cx="1123920" cy="3512880"/>
          </a:xfrm>
        </p:grpSpPr>
        <p:sp>
          <p:nvSpPr>
            <p:cNvPr id="340" name="Freeform 45"/>
            <p:cNvSpPr/>
            <p:nvPr/>
          </p:nvSpPr>
          <p:spPr>
            <a:xfrm>
              <a:off x="7104240" y="1884240"/>
              <a:ext cx="834840" cy="119880"/>
            </a:xfrm>
            <a:prstGeom prst="pie">
              <a:avLst/>
            </a:pr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46"/>
            <p:cNvSpPr/>
            <p:nvPr/>
          </p:nvSpPr>
          <p:spPr>
            <a:xfrm>
              <a:off x="7869240" y="1884240"/>
              <a:ext cx="357120" cy="1803960"/>
            </a:xfrm>
            <a:prstGeom prst="pie">
              <a:avLst/>
            </a:prstGeom>
            <a:solidFill>
              <a:srgbClr val="ff5f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47"/>
            <p:cNvSpPr/>
            <p:nvPr/>
          </p:nvSpPr>
          <p:spPr>
            <a:xfrm>
              <a:off x="7877160" y="3589920"/>
              <a:ext cx="351000" cy="1807200"/>
            </a:xfrm>
            <a:prstGeom prst="pie">
              <a:avLst/>
            </a:prstGeom>
            <a:solidFill>
              <a:srgbClr val="ff7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48"/>
            <p:cNvSpPr/>
            <p:nvPr/>
          </p:nvSpPr>
          <p:spPr>
            <a:xfrm>
              <a:off x="7104240" y="2001960"/>
              <a:ext cx="1062000" cy="3395160"/>
            </a:xfrm>
            <a:prstGeom prst="pie">
              <a:avLst/>
            </a:pr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Freeform 49"/>
          <p:cNvSpPr/>
          <p:nvPr/>
        </p:nvSpPr>
        <p:spPr>
          <a:xfrm>
            <a:off x="7162920" y="2057400"/>
            <a:ext cx="928440" cy="3244680"/>
          </a:xfrm>
          <a:prstGeom prst="pie">
            <a:avLst/>
          </a:pr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50"/>
          <p:cNvSpPr/>
          <p:nvPr/>
        </p:nvSpPr>
        <p:spPr>
          <a:xfrm>
            <a:off x="6961680" y="5418000"/>
            <a:ext cx="10972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51"/>
          <p:cNvSpPr/>
          <p:nvPr/>
        </p:nvSpPr>
        <p:spPr>
          <a:xfrm>
            <a:off x="3179160" y="5570640"/>
            <a:ext cx="180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input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BADA9-0061-43CE-B758-781CC06343E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equivalence partitioning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2D26-EC83-4D2E-BB2F-205174FE3E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ces between BBT and WB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375B3-0BCD-404D-8370-E3E4EB84B1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oday’s lecture, we have discussed black-box testing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next lecture, we will talk about testing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7D1E-8A09-412F-9A9F-75AFD59EE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7AB18-7D7C-4746-91F7-D56A0717F0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Engineering: A Practitioner’s Approach by Roger S. Pressman (Chapter 17.3-17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751B-A5D1-46D3-9EED-0582A7DD2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1AB3-2D82-4BA4-8E00-A2AA26CC3D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’ll have some more discussion on black-box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ally, we’ll talk about different techniques, which are classified as black-box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7A20-F39A-4B70-A04E-547303D08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92B6-715B-44F8-B74F-A34C00158A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Black-box Testi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82600" y="3779640"/>
            <a:ext cx="67788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5AF4-CB12-42FF-9FEE-EEF71791E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13545-4D96-4A1A-B68D-0C0A5F4A1A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ack-box Testing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BT focuses on the functional requirements of th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enables the software engineer to derive sets of input conditions that will fully exercise all functional requirements for a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not an alternative to WBT, rather a it is a complementary approach that is likely to uncover a different class of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DEF2-A2E9-45A2-B2C0-A88AC7620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F42BF-73DC-4754-8223-0A4537B539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6045120" y="2076480"/>
            <a:ext cx="1206720" cy="1304640"/>
            <a:chOff x="6045120" y="2076480"/>
            <a:chExt cx="1206720" cy="1304640"/>
          </a:xfrm>
        </p:grpSpPr>
        <p:sp>
          <p:nvSpPr>
            <p:cNvPr id="168" name="Freeform 3"/>
            <p:cNvSpPr/>
            <p:nvPr/>
          </p:nvSpPr>
          <p:spPr>
            <a:xfrm>
              <a:off x="6889680" y="2853720"/>
              <a:ext cx="149400" cy="407160"/>
            </a:xfrm>
            <a:prstGeom prst="pie">
              <a:avLst/>
            </a:prstGeom>
            <a:solidFill>
              <a:srgbClr val="0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4"/>
            <p:cNvSpPr/>
            <p:nvPr/>
          </p:nvSpPr>
          <p:spPr>
            <a:xfrm>
              <a:off x="6202440" y="2196000"/>
              <a:ext cx="1049400" cy="11851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>
              <a:off x="6045120" y="2733840"/>
              <a:ext cx="146160" cy="647280"/>
            </a:xfrm>
            <a:prstGeom prst="pie">
              <a:avLst/>
            </a:pr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6045120" y="2374560"/>
              <a:ext cx="993960" cy="466560"/>
            </a:xfrm>
            <a:prstGeom prst="pie">
              <a:avLst/>
            </a:pr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6889680" y="2076480"/>
              <a:ext cx="149400" cy="405720"/>
            </a:xfrm>
            <a:prstGeom prst="pie">
              <a:avLst/>
            </a:pr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360" y="587160"/>
            <a:ext cx="6431040" cy="30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ack-Box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9"/>
          <p:cNvGrpSpPr/>
          <p:nvPr/>
        </p:nvGrpSpPr>
        <p:grpSpPr>
          <a:xfrm>
            <a:off x="4565520" y="4343400"/>
            <a:ext cx="889200" cy="1425240"/>
            <a:chOff x="4565520" y="4343400"/>
            <a:chExt cx="889200" cy="1425240"/>
          </a:xfrm>
        </p:grpSpPr>
        <p:sp>
          <p:nvSpPr>
            <p:cNvPr id="175" name="Freeform 10"/>
            <p:cNvSpPr/>
            <p:nvPr/>
          </p:nvSpPr>
          <p:spPr>
            <a:xfrm>
              <a:off x="4778280" y="4882680"/>
              <a:ext cx="95400" cy="8856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4672080" y="4403880"/>
              <a:ext cx="782640" cy="13647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4565520" y="4343400"/>
              <a:ext cx="466920" cy="707400"/>
            </a:xfrm>
            <a:prstGeom prst="pie">
              <a:avLst/>
            </a:pr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13"/>
          <p:cNvGrpSpPr/>
          <p:nvPr/>
        </p:nvGrpSpPr>
        <p:grpSpPr>
          <a:xfrm>
            <a:off x="3165480" y="2300400"/>
            <a:ext cx="3062160" cy="2622240"/>
            <a:chOff x="3165480" y="2300400"/>
            <a:chExt cx="3062160" cy="2622240"/>
          </a:xfrm>
        </p:grpSpPr>
        <p:sp>
          <p:nvSpPr>
            <p:cNvPr id="179" name="Freeform 14"/>
            <p:cNvSpPr/>
            <p:nvPr/>
          </p:nvSpPr>
          <p:spPr>
            <a:xfrm>
              <a:off x="3165480" y="3318480"/>
              <a:ext cx="625320" cy="1604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3165480" y="2300400"/>
              <a:ext cx="3062160" cy="1423440"/>
            </a:xfrm>
            <a:prstGeom prst="pie">
              <a:avLst/>
            </a:pr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16"/>
            <p:cNvSpPr/>
            <p:nvPr/>
          </p:nvSpPr>
          <p:spPr>
            <a:xfrm>
              <a:off x="3801960" y="2660760"/>
              <a:ext cx="2425680" cy="2261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Freeform 17"/>
          <p:cNvSpPr/>
          <p:nvPr/>
        </p:nvSpPr>
        <p:spPr>
          <a:xfrm>
            <a:off x="4489560" y="1584360"/>
            <a:ext cx="466560" cy="166680"/>
          </a:xfrm>
          <a:prstGeom prst="pie">
            <a:avLst/>
          </a:prstGeom>
          <a:solidFill>
            <a:srgbClr val="7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18"/>
          <p:cNvGrpSpPr/>
          <p:nvPr/>
        </p:nvGrpSpPr>
        <p:grpSpPr>
          <a:xfrm>
            <a:off x="4199040" y="1643040"/>
            <a:ext cx="1030320" cy="1184040"/>
            <a:chOff x="4199040" y="1643040"/>
            <a:chExt cx="1030320" cy="1184040"/>
          </a:xfrm>
        </p:grpSpPr>
        <p:sp>
          <p:nvSpPr>
            <p:cNvPr id="184" name="Freeform 19"/>
            <p:cNvSpPr/>
            <p:nvPr/>
          </p:nvSpPr>
          <p:spPr>
            <a:xfrm>
              <a:off x="4867200" y="2225160"/>
              <a:ext cx="362160" cy="153360"/>
            </a:xfrm>
            <a:prstGeom prst="pie">
              <a:avLst/>
            </a:pr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4313160" y="1643040"/>
              <a:ext cx="916200" cy="11840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21"/>
            <p:cNvSpPr/>
            <p:nvPr/>
          </p:nvSpPr>
          <p:spPr>
            <a:xfrm>
              <a:off x="4199040" y="2480400"/>
              <a:ext cx="398520" cy="165960"/>
            </a:xfrm>
            <a:prstGeom prst="pie">
              <a:avLst/>
            </a:pr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4502160" y="1701720"/>
              <a:ext cx="95400" cy="825480"/>
            </a:xfrm>
            <a:prstGeom prst="pie">
              <a:avLst/>
            </a:pr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23"/>
          <p:cNvGrpSpPr/>
          <p:nvPr/>
        </p:nvGrpSpPr>
        <p:grpSpPr>
          <a:xfrm>
            <a:off x="2425680" y="3676680"/>
            <a:ext cx="1206360" cy="1304640"/>
            <a:chOff x="2425680" y="3676680"/>
            <a:chExt cx="1206360" cy="1304640"/>
          </a:xfrm>
        </p:grpSpPr>
        <p:sp>
          <p:nvSpPr>
            <p:cNvPr id="189" name="Freeform 24"/>
            <p:cNvSpPr/>
            <p:nvPr/>
          </p:nvSpPr>
          <p:spPr>
            <a:xfrm>
              <a:off x="3270240" y="4453920"/>
              <a:ext cx="149400" cy="407160"/>
            </a:xfrm>
            <a:prstGeom prst="pie">
              <a:avLst/>
            </a:prstGeom>
            <a:solidFill>
              <a:srgbClr val="0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25"/>
            <p:cNvSpPr/>
            <p:nvPr/>
          </p:nvSpPr>
          <p:spPr>
            <a:xfrm>
              <a:off x="2583000" y="3796200"/>
              <a:ext cx="1049040" cy="11851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26"/>
            <p:cNvSpPr/>
            <p:nvPr/>
          </p:nvSpPr>
          <p:spPr>
            <a:xfrm>
              <a:off x="2425680" y="4334040"/>
              <a:ext cx="146160" cy="647280"/>
            </a:xfrm>
            <a:prstGeom prst="pie">
              <a:avLst/>
            </a:pr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27"/>
            <p:cNvSpPr/>
            <p:nvPr/>
          </p:nvSpPr>
          <p:spPr>
            <a:xfrm>
              <a:off x="2425680" y="3974760"/>
              <a:ext cx="993960" cy="466560"/>
            </a:xfrm>
            <a:prstGeom prst="pie">
              <a:avLst/>
            </a:pr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3270240" y="3676680"/>
              <a:ext cx="149400" cy="405720"/>
            </a:xfrm>
            <a:prstGeom prst="pie">
              <a:avLst/>
            </a:pr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Rectangle 29"/>
          <p:cNvSpPr/>
          <p:nvPr/>
        </p:nvSpPr>
        <p:spPr>
          <a:xfrm>
            <a:off x="2352960" y="1770120"/>
            <a:ext cx="177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5246640" y="5027760"/>
            <a:ext cx="96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2540880" y="4956120"/>
            <a:ext cx="80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2"/>
          <p:cNvSpPr/>
          <p:nvPr/>
        </p:nvSpPr>
        <p:spPr>
          <a:xfrm>
            <a:off x="6542280" y="3355920"/>
            <a:ext cx="96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F1F7-241A-494B-B5A3-9437DD5273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ack-box Testing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BT attempts to find errors in the following 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rect or miss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s in data structures or external data base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 or performance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ation and termination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E68F-EABE-430C-B869-108B5173F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4FE34-864F-4B6F-A31C-936C31E68A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ack-box Testing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BBT purposely disregards control structure, attention is focused on the information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632D-BDEA-4945-9B8A-41DCA81C5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67E3-D933-4794-B84D-5D808B991B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ack-box Testing -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s are designed to answer the following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functional validity tes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system behavior and performance tes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lasses of input will make good test ca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C4BA9-8CC5-4E21-94D1-06E790B283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9:05:19Z</dcterms:created>
  <dc:creator>Ghulam Ahmad Farrukh</dc:creator>
  <dc:description/>
  <dc:language>en-US</dc:language>
  <cp:lastModifiedBy>ahmadmohsin</cp:lastModifiedBy>
  <dcterms:modified xsi:type="dcterms:W3CDTF">2009-06-22T04:59:12Z</dcterms:modified>
  <cp:revision>292</cp:revision>
  <dc:subject/>
  <dc:title>Software Quality Assurance and Testing</dc:title>
</cp:coreProperties>
</file>